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46A-30CF-40C4-93AF-3BBB9517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39-44E4-4AEE-AEC4-49BFFE3F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777-A654-4D2A-BDD0-F776D994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63A-0348-492C-9D72-35A2B6F7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80D3-3533-472B-8642-6C6F71FA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87CD-4C92-45E3-AD12-60171C61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C11-9265-43E4-AB76-2EE188B0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0C74-15B3-442D-9BD8-EB7BC420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154-5075-45DB-8869-CDC4E49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416A-2F66-484F-8004-96B5962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7AD4-DEC5-4378-BFBA-500A2073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766-0641-4234-9309-8F5A25B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A654-F53D-401C-B04B-A2E2BFA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84A9-8C10-4522-9801-69839EA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CE5-AE40-459F-9AE2-B26194AD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9685-AD03-45F2-8D5B-6BB7FF91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F6DA-EE2E-4B41-8764-330095EB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D38-2086-4C89-86AF-3E07CD4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EB8-390F-495E-9D02-22ECB06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EC6-439B-43C2-8D25-A2656F0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D14-F9AD-470D-AF16-FAFC963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B10-9209-4DCC-BE06-ACEDA06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174-EAF5-4515-A10A-FE35FBD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0DD-53BD-4CDB-B52A-0347E0AF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15A-B95A-46C5-9C40-DC93F1F2B80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0EE-2E3D-45B7-8AD7-6078883A159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ic Structure and Chemical Bo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Table and 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lectrons increases by one as you go across 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nergy levels increases by one as you go down a colum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ight is Great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Noble G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noble gases either have all of their energy levels filled to its maximum or it has eight electrons in its outermost energy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Check-u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nergy level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lc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ront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or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lectrons in outermost leve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imo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eryll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rypt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Fami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8- Noble Gas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 not combine with other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ome react slightly, but it is r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7- Haloge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- only needs one electron to be sta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lourine is the most active, outermost shell is closest to the nuc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- Alkali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ve one electron in outermost sh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 with haloge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 your Science Jour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and answer the questions in the “Applying Science” article on page 16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Dot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Chemical Symb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lace first dot on top of symbol and work right until all four sides have a dot or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ly use electrons in the outermost energy level.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back at the top fill in the remaining spaces until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B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orce that hold atoms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s bond in manner which makes both atoms st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.e: both atoms outermost shells will be arranged like the noble gasses (8 Electr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onic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- result of an atom loosing or gaining an electron and changing its overall char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 is an attraction which holds ions toge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- pure substance containing two or more elements that are chemically bon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Magnesium (+2 charge) meets with chlorine (-1 charge) will they bond? If so, How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tallic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when metal atoms share their pooled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eeps metals from breaking and makes them malle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utermost electrons travel from one atom to another enabling a curr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t along the se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op half “ Ionic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he Bottom Half “Covalent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valent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emical bond that forms between non-metal atoms when they share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a neutral partic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ecule- neutral particle formed when electrons are sh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tomic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l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d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stati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times an atom shares more than one electron with another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17 on page 174 for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two pairs of electrons make one covalent bond it is called a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gure 17 also shows a triple bond between 2 Nitrogen ato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occurs when three pairs of electrons are shared covalen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ll De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different sizes, one is positive and one is negati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atoms of different sizes bond, they form polar molecu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se molecules do not share the electrons even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larger atom keeps the electrons more than the smaller ato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ood example of a polar molecule i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hydrochloric acid and sod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aw these three molecules and determine the po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 all have been asking how elements get their symb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st elements are symbolized by their first let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amples: Hydrogen (H) and Carbon (C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s are symbolized for their name in another langu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otassium (K) – Latin for Kali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ron (Fe) – Greek for Ferro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emical symbols are understood worldw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One Lett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capitaliz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wo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 and the second is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ree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ized and the remaining are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1219320"/>
            <a:ext cx="49528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1676520"/>
            <a:ext cx="38862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2 H</a:t>
            </a:r>
            <a:r>
              <a:rPr b="0" lang="en-US" sz="12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981080" y="335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581280" y="3352320"/>
            <a:ext cx="0" cy="2133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8320" y="3657240"/>
            <a:ext cx="0" cy="152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uper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Black"/>
              </a:rPr>
              <a:t>Chemical Symb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 Black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Chemical Formul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chlo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Hyd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lver Nit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ron 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 Pe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mo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et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gnes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clou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dot diagr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l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valent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lecu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Formu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desk appears to be solid, but it is mostly empty spac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 cloud- the area of open space around an atom’s nucleus that contains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ath of an electron is not well mapped. It is actually kind of rand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clou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ery similar to the blades of a ceiling f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ppears that there is a circle rotating when it is a few blades moving at such a fast rate that it creates that im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arran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though all the electrons are in the electron cloud, some electrons are closer to the nucleus than ot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ergy Levels- different areas for an electron in an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3 on page 16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ber of Electr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energy level can only hold a certain number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One- can hold either 1 or 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wo- can hold up to 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hree- can hold up to 1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Four- can hold up to 3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La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t a magnet and 4 paper clip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one paper clip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the rest of the paper clips one at a time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e at a time remove the paper clips from the magnet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ich paper clip was the easiest to remove?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one have the least amount of energy and are less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4 have the most energy and are more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2:21:38Z</dcterms:created>
  <dc:creator>Adam's Homepage</dc:creator>
  <dc:description/>
  <dc:language>en-US</dc:language>
  <cp:lastModifiedBy>Adam's Homepage</cp:lastModifiedBy>
  <dcterms:modified xsi:type="dcterms:W3CDTF">2008-10-30T13:48:25Z</dcterms:modified>
  <cp:revision>5</cp:revision>
  <dc:subject/>
  <dc:title>Chapter 6</dc:title>
</cp:coreProperties>
</file>